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A26B-A11A-4136-92B3-8C47C2EDE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0E2-F199-4B3B-93C6-E72B1548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155-1A95-4654-93AD-BB421A56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EB8-C969-45AB-9DC0-17461A23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56F-4BAA-460C-9A20-9D652CB5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025-559A-4DC2-94AD-CCED741A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838-7AB5-430C-9F85-298C231D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8AB-ED2C-408F-8E37-41A8327A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564-F5F4-4DC9-95AD-EB0B8EF6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95E-E69A-4217-B5B4-21886E1F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7B8-F54A-41D6-AB68-A1487605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5BD-D839-4FAE-BF15-FD461E5A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819-492B-4EF9-BE00-781B3A53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5680-0CCF-456A-B5ED-5BEBD13E963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ull-Ambassador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907920"/>
            <a:ext cx="82072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olbein-ambassadors"/>
          <p:cNvPicPr/>
          <p:nvPr/>
        </p:nvPicPr>
        <p:blipFill>
          <a:blip r:embed="rId1"/>
          <a:stretch/>
        </p:blipFill>
        <p:spPr>
          <a:xfrm>
            <a:off x="1800360" y="695160"/>
            <a:ext cx="5543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5280" y="907920"/>
            <a:ext cx="252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9400" y="553716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836640"/>
            <a:ext cx="23767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kull-Ambassado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2633760"/>
            <a:ext cx="1571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olbein-ambassadors"/>
          <p:cNvPicPr/>
          <p:nvPr/>
        </p:nvPicPr>
        <p:blipFill>
          <a:blip r:embed="rId1"/>
          <a:stretch/>
        </p:blipFill>
        <p:spPr>
          <a:xfrm>
            <a:off x="2987640" y="692280"/>
            <a:ext cx="554364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836640"/>
            <a:ext cx="237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The Ambassador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153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ail received 17 Nov 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nolfinibig"/>
          <p:cNvPicPr/>
          <p:nvPr/>
        </p:nvPicPr>
        <p:blipFill>
          <a:blip r:embed="rId1"/>
          <a:stretch/>
        </p:blipFill>
        <p:spPr>
          <a:xfrm>
            <a:off x="1979640" y="333360"/>
            <a:ext cx="504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nolfinibig"/>
          <p:cNvPicPr/>
          <p:nvPr/>
        </p:nvPicPr>
        <p:blipFill>
          <a:blip r:embed="rId1"/>
          <a:stretch/>
        </p:blipFill>
        <p:spPr>
          <a:xfrm>
            <a:off x="3780000" y="260280"/>
            <a:ext cx="504000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549360"/>
            <a:ext cx="37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040440"/>
            <a:ext cx="99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rnolfinibig"/>
          <p:cNvPicPr/>
          <p:nvPr/>
        </p:nvPicPr>
        <p:blipFill>
          <a:blip r:embed="rId1"/>
          <a:stretch/>
        </p:blipFill>
        <p:spPr>
          <a:xfrm>
            <a:off x="2627280" y="54936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0920" y="549360"/>
            <a:ext cx="165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fini st margaret"/>
          <p:cNvPicPr/>
          <p:nvPr/>
        </p:nvPicPr>
        <p:blipFill>
          <a:blip r:embed="rId1"/>
          <a:stretch/>
        </p:blipFill>
        <p:spPr>
          <a:xfrm>
            <a:off x="3276720" y="333360"/>
            <a:ext cx="5688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50920" y="404640"/>
            <a:ext cx="2952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Johannes van eyck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fuit hic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was here).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 and brus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ra et labo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pray and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rnolfini chandelier"/>
          <p:cNvPicPr/>
          <p:nvPr/>
        </p:nvPicPr>
        <p:blipFill>
          <a:blip r:embed="rId1"/>
          <a:stretch/>
        </p:blipFill>
        <p:spPr>
          <a:xfrm>
            <a:off x="3348000" y="4046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836640"/>
            <a:ext cx="252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rnolfinibig"/>
          <p:cNvPicPr/>
          <p:nvPr/>
        </p:nvPicPr>
        <p:blipFill>
          <a:blip r:embed="rId1"/>
          <a:stretch/>
        </p:blipFill>
        <p:spPr>
          <a:xfrm>
            <a:off x="3564000" y="26028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4000" y="333360"/>
            <a:ext cx="3240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32:41Z</dcterms:created>
  <dc:creator>Any Authorised User</dc:creator>
  <dc:description/>
  <dc:language>en-US</dc:language>
  <cp:lastModifiedBy>RomaK</cp:lastModifiedBy>
  <dcterms:modified xsi:type="dcterms:W3CDTF">2015-09-02T09:54:04Z</dcterms:modified>
  <cp:revision>36</cp:revision>
  <dc:subject/>
  <dc:title>Slide 1</dc:title>
</cp:coreProperties>
</file>